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6B15-2B04-4C4B-B7B8-2D7CCDE23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ADA8-24E6-4706-971D-D3FDC7F32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7D36-0C57-4929-9193-AD319AE5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43BE-DD4D-467B-8D2F-EBEC28D3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5C6-82C2-44D3-A426-C253FA627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5FD-4E44-45FE-A05B-ACC0E08C1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C813-0351-4682-A91C-1378109B6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5237-FD1E-454B-9E1A-C2D9FF66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8326-BB52-431F-BE69-1BA9C3F2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06F8-D104-428D-8522-5E2EB76AF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4966-C363-4999-B3FB-F2DB91D22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0411-C50A-4449-85B8-06ABD8EBF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45E4-169E-4E05-B77B-07D0F100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FA5D-6F91-4E1A-86D8-4AD7BB60D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2A6B-20EC-464B-B39A-DEEB8903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8D33-B623-4258-B5B2-CA3468690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03A9-C3C9-4827-933D-D3B0BF3B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D21-A1C0-4D6C-BB00-4E04878C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A0E-CEBF-4930-B1ED-37A14834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261F-5E93-4EE5-91B8-093A4C47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8097-02AE-4FA6-A575-60E42EBE4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EC0A-A299-43ED-A09D-C15C60A09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9751-0FF8-4820-9B28-9FE5261D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A3CD-75A4-42B8-B21E-0E7E98F3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2640-20B9-42B5-B70F-71B089072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C6EB-4427-4A08-A65B-2E92CC8BF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1359-26BC-4ADC-BB76-E857BD571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13C-9F5F-49B8-942E-77AD69BE4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B76-CA41-4143-B0FB-7FDFF395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6F5-DC56-4488-8BA7-6387C18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3A5-BB7A-4F93-A9AA-712BA941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0F2-AD3A-44EE-96B1-1015E1B2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E10-13C1-4D7D-8DF6-281218F4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534-F6BC-424B-ABE2-05C55E0E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E5B-F783-4E7C-B0AB-561B414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CB5-8CA8-40E2-BDAF-D92E0F7A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641-CD4C-4B1F-9777-7E5EE453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364-FF52-4096-86B9-A530B767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201-DCBB-4F47-91E3-1DCADCFC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644-AA4B-498A-81B3-803A5EF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9DA7-E16B-4F06-8882-7F3016569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hyperlink" Target="file:///tmp/home/.config/libreoffice/4/user/gallery/WHOOSH.WAV" TargetMode="Externa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Mitosis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5105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cycli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04920" y="259092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mily of molecules that control th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27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26"/>
          <p:cNvSpPr/>
          <p:nvPr/>
        </p:nvSpPr>
        <p:spPr>
          <a:xfrm>
            <a:off x="762120" y="5105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CLEAVAGE FUR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25"/>
          <p:cNvSpPr/>
          <p:nvPr/>
        </p:nvSpPr>
        <p:spPr>
          <a:xfrm>
            <a:off x="533520" y="266688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area of the cell membran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at pinches in to separate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viding cell into 2 new ce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24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027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026"/>
          <p:cNvSpPr/>
          <p:nvPr/>
        </p:nvSpPr>
        <p:spPr>
          <a:xfrm>
            <a:off x="0" y="51055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ENTROSOME 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25"/>
          <p:cNvSpPr/>
          <p:nvPr/>
        </p:nvSpPr>
        <p:spPr>
          <a:xfrm>
            <a:off x="380880" y="259092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ot near the nucle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at holds the centrioles and organizes the mitotic spind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24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04920" y="20574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cells get too big they can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 transport enough food, oxygen, &amp; waste across their cell membrane because _____________ increases faster than 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066680" y="43434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volum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    surfac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920" y="44956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: What is BINARY FISSION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304920" y="18288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ype of cell division used by bacteria to reprodu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85800" y="5029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MITOSIS &amp; cytokine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38088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ype of cell division used by eukaryotes to make more cells that are identical to the starting c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are chromosomes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609480" y="236232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 of DNA seen in cells that are div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mitochond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04920" y="213372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organelles that provide ener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cell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8080" y="5486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eavage furro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724280" y="243828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inched in place in an animal cell during cytoki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3" descr="cleavage furrow"/>
          <p:cNvPicPr/>
          <p:nvPr/>
        </p:nvPicPr>
        <p:blipFill>
          <a:blip r:embed="rId1"/>
          <a:stretch/>
        </p:blipFill>
        <p:spPr>
          <a:xfrm>
            <a:off x="457200" y="2133720"/>
            <a:ext cx="3962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45720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centromer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0"/>
          <p:cNvSpPr/>
          <p:nvPr/>
        </p:nvSpPr>
        <p:spPr>
          <a:xfrm>
            <a:off x="3048120" y="2743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holds the 2 chromatid copies toge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0" descr="centromere 2"/>
          <p:cNvPicPr/>
          <p:nvPr/>
        </p:nvPicPr>
        <p:blipFill>
          <a:blip r:embed="rId1"/>
          <a:stretch/>
        </p:blipFill>
        <p:spPr>
          <a:xfrm>
            <a:off x="838080" y="1066680"/>
            <a:ext cx="185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Pha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7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1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1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2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3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4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5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6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8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9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0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1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2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3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4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5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6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7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8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9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0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1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2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3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4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5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6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9">
            <a:hlinkClick r:id="rId15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38080" y="56386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centrio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809880" y="2438280"/>
            <a:ext cx="510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is made of microtubules and helps to move the chromosomes to the po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centrioles with arrow"/>
          <p:cNvPicPr/>
          <p:nvPr/>
        </p:nvPicPr>
        <p:blipFill>
          <a:blip r:embed="rId1"/>
          <a:srcRect l="0" t="20832" r="0" b="0"/>
          <a:stretch/>
        </p:blipFill>
        <p:spPr>
          <a:xfrm>
            <a:off x="380880" y="2209680"/>
            <a:ext cx="3365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57200" y="5638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cell pl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3886200" y="259092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divider that forms in a plant cell during cytokin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36" descr="cell plate arrow"/>
          <p:cNvPicPr/>
          <p:nvPr/>
        </p:nvPicPr>
        <p:blipFill>
          <a:blip r:embed="rId1"/>
          <a:stretch/>
        </p:blipFill>
        <p:spPr>
          <a:xfrm>
            <a:off x="304920" y="1752480"/>
            <a:ext cx="3435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09480" y="541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homologous chromosome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895480" y="22860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romosomes that are the same size, same shape, and carry genes for the same tra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6" descr="crossing overrrrrrr"/>
          <p:cNvPicPr/>
          <p:nvPr/>
        </p:nvPicPr>
        <p:blipFill>
          <a:blip r:embed="rId1"/>
          <a:srcRect l="0" t="0" r="55913" b="6676"/>
          <a:stretch/>
        </p:blipFill>
        <p:spPr>
          <a:xfrm>
            <a:off x="533520" y="1828800"/>
            <a:ext cx="144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5720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hromatin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09480" y="243828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NA and attached proteins that is spread out in the nucleus of non-dividing c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62120" y="472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centrio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213372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ructures at the poles to which the spindle fibers attach and pull the chromosom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57200" y="4648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an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533520" y="23623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ease in which body cells lose their ability to control their cell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80880" y="48006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CHROMATI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33520" y="2666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2 identical arms that make up a chromos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85800" y="40384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is a carcino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685800" y="25146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bstance that causes canc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86200" y="2209680"/>
            <a:ext cx="49528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romosomes are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spread out as chrom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NA is cop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ll is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ing its jo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62120" y="5105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INTERPHAS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1" descr="mitosis11"/>
          <p:cNvPicPr/>
          <p:nvPr/>
        </p:nvPicPr>
        <p:blipFill>
          <a:blip r:embed="rId1"/>
          <a:srcRect l="0" t="50006" r="80558" b="0"/>
          <a:stretch/>
        </p:blipFill>
        <p:spPr>
          <a:xfrm>
            <a:off x="442800" y="1600200"/>
            <a:ext cx="2452680" cy="323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3351960" y="6400080"/>
            <a:ext cx="408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ccff"/>
                </a:solidFill>
                <a:latin typeface="Arial"/>
              </a:rPr>
              <a:t>http://www.life.uiuc.edu/plantbio/102/lectures/08mit&amp;veg10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ANAPHAS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05320" y="22860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omatids separate and move to opposite p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0" descr="mitosis11"/>
          <p:cNvPicPr/>
          <p:nvPr/>
        </p:nvPicPr>
        <p:blipFill>
          <a:blip r:embed="rId1"/>
          <a:srcRect l="59724" t="50006" r="20833" b="0"/>
          <a:stretch/>
        </p:blipFill>
        <p:spPr>
          <a:xfrm>
            <a:off x="685800" y="1600200"/>
            <a:ext cx="2540160" cy="3352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4037760" y="6613560"/>
            <a:ext cx="408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ccff"/>
                </a:solidFill>
                <a:latin typeface="Arial"/>
              </a:rPr>
              <a:t>http://www.life.uiuc.edu/plantbio/102/lectures/08mit&amp;veg10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METAPHAS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50532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s line up in MIDDLE of the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mitosis11"/>
          <p:cNvPicPr/>
          <p:nvPr/>
        </p:nvPicPr>
        <p:blipFill>
          <a:blip r:embed="rId1"/>
          <a:srcRect l="38891" t="50006" r="40282" b="0"/>
          <a:stretch/>
        </p:blipFill>
        <p:spPr>
          <a:xfrm>
            <a:off x="457200" y="1523880"/>
            <a:ext cx="2844720" cy="3505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"/>
          <p:cNvSpPr/>
          <p:nvPr/>
        </p:nvSpPr>
        <p:spPr>
          <a:xfrm>
            <a:off x="3732840" y="6324480"/>
            <a:ext cx="408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ccff"/>
                </a:solidFill>
                <a:latin typeface="Arial"/>
              </a:rPr>
              <a:t>http://www.life.uiuc.edu/plantbio/102/lectures/08mit&amp;veg10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62120" y="5562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PROPHA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352680" y="1981080"/>
            <a:ext cx="5791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atin scrunches into chromosom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membrane/nucleolus disappea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ndle fibers/centrioles 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" descr="mitosis11"/>
          <p:cNvPicPr/>
          <p:nvPr/>
        </p:nvPicPr>
        <p:blipFill>
          <a:blip r:embed="rId1"/>
          <a:srcRect l="19449" t="50006" r="59724" b="0"/>
          <a:stretch/>
        </p:blipFill>
        <p:spPr>
          <a:xfrm>
            <a:off x="228600" y="1752480"/>
            <a:ext cx="2813040" cy="3465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4190040" y="6400800"/>
            <a:ext cx="408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ccff"/>
                </a:solidFill>
                <a:latin typeface="Arial"/>
              </a:rPr>
              <a:t>http://www.life.uiuc.edu/plantbio/102/lectures/08mit&amp;veg10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762120" y="4648320"/>
            <a:ext cx="75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is G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609480" y="23623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ell makes the organelles and molecules needed for a new c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12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HROMOSOM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25720" y="2286000"/>
            <a:ext cx="861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NA and attached proteins t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crunched up in the nucleu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viding c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a CENTROMER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holds the 2 chromatid arms together in a chromos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Dustin Zahm</cp:lastModifiedBy>
  <dcterms:modified xsi:type="dcterms:W3CDTF">2014-02-21T19:48:18Z</dcterms:modified>
  <cp:revision>94</cp:revision>
  <dc:subject/>
  <dc:title>Semester 2</dc:title>
</cp:coreProperties>
</file>